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40FF-927C-4324-BF9A-7688C1D8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7086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2120" y="4057200"/>
            <a:ext cx="7086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05F0-3D1B-4280-B3DC-A0BFF79D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752120" y="405720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83440" y="405720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8100-EBBF-4176-BD4F-BFEBE5F3C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48280" y="182844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44440" y="182844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752120" y="405720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48280" y="405720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44440" y="405720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117F-C424-4FA0-8A0A-DC26F9FF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BD8E-03F6-4656-A68D-BC05DE54F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52120" y="182844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84B6-1E4D-4285-955E-CB53D715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6419-AA66-473F-8ECC-0D795CD9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C7B3-76A8-437E-8989-4806108E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FB6C-1629-4817-AF70-2C2CCE75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52120" y="4568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A90D-2B94-4FBF-A3A8-E25D633D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52120" y="405720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C47B-4408-4A62-8F61-53A1902D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752120" y="182844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8F1B-3BDF-413A-8C6D-1713D3EE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83440" y="405720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3626-C1D5-4FE2-99CA-0E36BD42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52120" y="4057200"/>
            <a:ext cx="7086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C510-42F0-4797-B462-4612C0CF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7086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52120" y="4057200"/>
            <a:ext cx="7086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70D6-EF43-4292-94C7-AAB99047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52120" y="405720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83440" y="405720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FF20-E580-4F67-8B36-3E17D948B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48280" y="182844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44440" y="182844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52120" y="405720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148280" y="405720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44440" y="405720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C238-EBF8-4B43-9E08-FE68CEA8D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04FF-203A-4514-9818-7DA4CA54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796F-5AFD-40FD-96C3-E8CA73FF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1930-FF6E-4324-B140-F410776D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752120" y="4568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7129-73ED-44CF-A3DE-353DB56C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752120" y="405720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7032-D6E4-46F0-BE1A-01895832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83440" y="405720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C7CC-96E7-4C3A-9CDD-3ED7801B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752120" y="4057200"/>
            <a:ext cx="7086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5F1B-EC69-490A-B458-D168A189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3434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752120" y="182844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eb00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1001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8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767960" y="6248520"/>
            <a:ext cx="1737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ff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ff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ff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666ED3-EC23-41F5-AFF0-2CBB0A5A369C}" type="slidenum">
              <a:rPr b="0" lang="en-US" sz="1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ff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ff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ff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8EC071-EE61-4421-9688-D404722D6921}" type="slidenum">
              <a:rPr b="0" lang="en-US" sz="1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10019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8000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ibme.org/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781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Matura MT Script Capitals"/>
              </a:rPr>
              <a:t>To Sleep, or not to Sleep</a:t>
            </a:r>
            <a:endParaRPr b="0" lang="en-US" sz="6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4191120" y="4114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Matura MT Script Capitals"/>
              </a:rPr>
              <a:t>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87600" cy="1066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 rot="5400000">
            <a:off x="7880400" y="3321000"/>
            <a:ext cx="380880" cy="292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-662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Gill Sans Ultra Bold"/>
              </a:rPr>
              <a:t>z</a:t>
            </a:r>
            <a:endParaRPr b="0" lang="en-US" sz="5400" spc="1" strike="noStrike">
              <a:ln w="0">
                <a:noFill/>
              </a:ln>
              <a:solidFill>
                <a:srgbClr val="0000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Gill Sans Ultra Bold"/>
              <a:ea typeface="Gill Sans Ultra Bold"/>
            </a:endParaRPr>
          </a:p>
        </p:txBody>
      </p:sp>
      <p:sp>
        <p:nvSpPr>
          <p:cNvPr id="89" name=""/>
          <p:cNvSpPr txBox="1"/>
          <p:nvPr/>
        </p:nvSpPr>
        <p:spPr>
          <a:xfrm rot="5400000">
            <a:off x="7956000" y="4083120"/>
            <a:ext cx="381240" cy="291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-662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Gill Sans Ultra Bold"/>
              </a:rPr>
              <a:t>z</a:t>
            </a:r>
            <a:endParaRPr b="0" lang="en-US" sz="5400" spc="1" strike="noStrike">
              <a:ln w="0">
                <a:noFill/>
              </a:ln>
              <a:solidFill>
                <a:srgbClr val="0000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Gill Sans Ultra Bold"/>
              <a:ea typeface="Gill Sans Ultra Bold"/>
            </a:endParaRPr>
          </a:p>
        </p:txBody>
      </p:sp>
      <p:sp>
        <p:nvSpPr>
          <p:cNvPr id="90" name=""/>
          <p:cNvSpPr txBox="1"/>
          <p:nvPr/>
        </p:nvSpPr>
        <p:spPr>
          <a:xfrm rot="5400000">
            <a:off x="8337600" y="2787480"/>
            <a:ext cx="380880" cy="292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-662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Gill Sans Ultra Bold"/>
              </a:rPr>
              <a:t>z</a:t>
            </a:r>
            <a:endParaRPr b="0" lang="en-US" sz="5400" spc="1" strike="noStrike">
              <a:ln w="0">
                <a:noFill/>
              </a:ln>
              <a:solidFill>
                <a:srgbClr val="0000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Gill Sans Ultra Bold"/>
              <a:ea typeface="Gill Sans Ultra Bold"/>
            </a:endParaRPr>
          </a:p>
        </p:txBody>
      </p:sp>
      <p:sp>
        <p:nvSpPr>
          <p:cNvPr id="91" name=""/>
          <p:cNvSpPr txBox="1"/>
          <p:nvPr/>
        </p:nvSpPr>
        <p:spPr>
          <a:xfrm rot="5400000">
            <a:off x="7498800" y="4692600"/>
            <a:ext cx="380880" cy="291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-662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Gill Sans Ultra Bold"/>
              </a:rPr>
              <a:t>z</a:t>
            </a:r>
            <a:endParaRPr b="0" lang="en-US" sz="5400" spc="1" strike="noStrike">
              <a:ln w="0">
                <a:noFill/>
              </a:ln>
              <a:solidFill>
                <a:srgbClr val="0000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Gill Sans Ultra Bold"/>
              <a:ea typeface="Gill Sans Ultra Bold"/>
            </a:endParaRPr>
          </a:p>
        </p:txBody>
      </p:sp>
      <p:sp>
        <p:nvSpPr>
          <p:cNvPr id="92" name=""/>
          <p:cNvSpPr txBox="1"/>
          <p:nvPr/>
        </p:nvSpPr>
        <p:spPr>
          <a:xfrm rot="5400000">
            <a:off x="7727400" y="5302080"/>
            <a:ext cx="380880" cy="291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-662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Gill Sans Ultra Bold"/>
              </a:rPr>
              <a:t>z</a:t>
            </a:r>
            <a:endParaRPr b="0" lang="en-US" sz="5400" spc="1" strike="noStrike">
              <a:ln w="0">
                <a:noFill/>
              </a:ln>
              <a:solidFill>
                <a:srgbClr val="0000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Gill Sans Ultra Bold"/>
              <a:ea typeface="Gill Sans Ultra Bold"/>
            </a:endParaRPr>
          </a:p>
        </p:txBody>
      </p:sp>
      <p:sp>
        <p:nvSpPr>
          <p:cNvPr id="93" name=""/>
          <p:cNvSpPr txBox="1"/>
          <p:nvPr/>
        </p:nvSpPr>
        <p:spPr>
          <a:xfrm rot="5400000">
            <a:off x="7270200" y="5759280"/>
            <a:ext cx="380880" cy="291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-662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Gill Sans Ultra Bold"/>
              </a:rPr>
              <a:t>z</a:t>
            </a:r>
            <a:endParaRPr b="0" lang="en-US" sz="5400" spc="1" strike="noStrike">
              <a:ln w="0">
                <a:noFill/>
              </a:ln>
              <a:solidFill>
                <a:srgbClr val="0000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Gill Sans Ultra Bold"/>
              <a:ea typeface="Gill Sans Ultra Bold"/>
            </a:endParaRPr>
          </a:p>
        </p:txBody>
      </p:sp>
      <p:sp>
        <p:nvSpPr>
          <p:cNvPr id="94" name=""/>
          <p:cNvSpPr txBox="1"/>
          <p:nvPr/>
        </p:nvSpPr>
        <p:spPr>
          <a:xfrm rot="5400000">
            <a:off x="7575120" y="6292800"/>
            <a:ext cx="380880" cy="291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-662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Gill Sans Ultra Bold"/>
              </a:rPr>
              <a:t>z</a:t>
            </a:r>
            <a:endParaRPr b="0" lang="en-US" sz="5400" spc="1" strike="noStrike">
              <a:ln w="0">
                <a:noFill/>
              </a:ln>
              <a:solidFill>
                <a:srgbClr val="0000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Gill Sans Ultra Bold"/>
              <a:ea typeface="Gill Sans Ultra Bol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7088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anks to…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ve, Philip Babcock, and Noah Webster.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Webster's Third New International Dictionary of the English Language, Unabridged: a Merriam-Webster, Utilizing All the Experience and Resources of More than One Hundred Years of Merriam-Webster Dictionari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Springfield, MA: Merriam-Webster, 1981. Print. 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Tahoma"/>
                <a:hlinkClick r:id="rId1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"Dictionary.com | Free Online Dictionary for English Definitions."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Dictionary.com | Free Online Dictionary for English Definitio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N.p., n.d. Web. 1 Mar. 2011. &lt;http://dictionary.com&gt;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my mom, who gave me lots of information about sleep and its effect on people.</a:t>
            </a:r>
            <a:endParaRPr b="0" lang="en-US" sz="24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553080" y="152280"/>
            <a:ext cx="2133720" cy="14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70884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at effect does sleep deprivation have on memory and math skills?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 rot="5400000">
            <a:off x="-799560" y="3161520"/>
            <a:ext cx="33130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8333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08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oblem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08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62520" y="327672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70884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e you ever been to a sleepover? They can be great. The only down side is that after you feel drained and unable to think. You have enough energy to do a few things, but after a while, you crash. I want to know if it really does effect my thinking and memory skills.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 rot="5400000">
            <a:off x="-1256400" y="2780280"/>
            <a:ext cx="437976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08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Introdutio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08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70884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think that their memory will get slower, and that math skills will take more tries and time to do.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934320" y="5238720"/>
            <a:ext cx="2209680" cy="1619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 rot="5400000">
            <a:off x="-1332360" y="2858040"/>
            <a:ext cx="418932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Hypothesi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70884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 Jr. High girls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six character math problems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deck of cards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8320" y="3733920"/>
            <a:ext cx="4105080" cy="2828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 rot="5400000">
            <a:off x="-1467720" y="2763000"/>
            <a:ext cx="4687920" cy="99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Material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70884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ather all materials.</a:t>
            </a:r>
            <a:endParaRPr b="0" lang="en-US" sz="2000" spc="-1" strike="noStrike">
              <a:solidFill>
                <a:srgbClr val="0000ff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ive each girl the same math problem to solve.</a:t>
            </a:r>
            <a:endParaRPr b="0" lang="en-US" sz="2000" spc="-1" strike="noStrike">
              <a:solidFill>
                <a:srgbClr val="0000ff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cord how long it takes them to get it right.</a:t>
            </a:r>
            <a:endParaRPr b="0" lang="en-US" sz="2000" spc="-1" strike="noStrike">
              <a:solidFill>
                <a:srgbClr val="0000ff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ke out the deck of cards. Choose 5 random cards.</a:t>
            </a:r>
            <a:endParaRPr b="0" lang="en-US" sz="2000" spc="-1" strike="noStrike">
              <a:solidFill>
                <a:srgbClr val="0000ff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how them to each girl.</a:t>
            </a:r>
            <a:endParaRPr b="0" lang="en-US" sz="2000" spc="-1" strike="noStrike">
              <a:solidFill>
                <a:srgbClr val="0000ff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ve them repeat the cards back to you after 5 sec. of studying the cards.</a:t>
            </a:r>
            <a:endParaRPr b="0" lang="en-US" sz="2000" spc="-1" strike="noStrike">
              <a:solidFill>
                <a:srgbClr val="0000ff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cord how many cards they can remember.</a:t>
            </a:r>
            <a:endParaRPr b="0" lang="en-US" sz="2000" spc="-1" strike="noStrike">
              <a:solidFill>
                <a:srgbClr val="0000ff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ve the girls stay awake until midnight.</a:t>
            </a:r>
            <a:endParaRPr b="0" lang="en-US" sz="2000" spc="-1" strike="noStrike">
              <a:solidFill>
                <a:srgbClr val="0000ff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st each girl again.</a:t>
            </a:r>
            <a:endParaRPr b="0" lang="en-US" sz="2000" spc="-1" strike="noStrike">
              <a:solidFill>
                <a:srgbClr val="0000ff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cord all of the data.</a:t>
            </a:r>
            <a:endParaRPr b="0" lang="en-US" sz="2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 rot="19653000">
            <a:off x="1371600" y="53316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05920" y="2057400"/>
            <a:ext cx="380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2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57600" y="5983200"/>
            <a:ext cx="2379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Impact"/>
              <a:ea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876920" y="838080"/>
            <a:ext cx="228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629400" y="5181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5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 rot="5400000">
            <a:off x="-1021680" y="3231360"/>
            <a:ext cx="37573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Procedur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70884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verage time for the control math problem test was 11.2 seconds.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verage time for the math problem at midnight was 16.8 seconds.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ime of day didn’t effect memory at all! Everyone got all 5 cards right every time.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 rot="5400000">
            <a:off x="-990360" y="2895480"/>
            <a:ext cx="380988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Result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16644" t="0" r="21324" b="0"/>
          <a:stretch/>
        </p:blipFill>
        <p:spPr>
          <a:xfrm>
            <a:off x="5334120" y="457200"/>
            <a:ext cx="2438280" cy="2211480"/>
          </a:xfrm>
          <a:prstGeom prst="rect">
            <a:avLst/>
          </a:prstGeom>
          <a:ln w="101520">
            <a:solidFill>
              <a:srgbClr val="00008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276720" y="3505320"/>
            <a:ext cx="4952880" cy="278604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3"/>
          <a:srcRect l="26230" t="0" r="26230" b="0"/>
          <a:stretch/>
        </p:blipFill>
        <p:spPr>
          <a:xfrm>
            <a:off x="1905120" y="1828800"/>
            <a:ext cx="2514600" cy="3000240"/>
          </a:xfrm>
          <a:prstGeom prst="rect">
            <a:avLst/>
          </a:prstGeom>
          <a:ln w="88920">
            <a:solidFill>
              <a:srgbClr val="8000ff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4"/>
          <a:srcRect l="0" t="0" r="26830" b="0"/>
          <a:stretch/>
        </p:blipFill>
        <p:spPr>
          <a:xfrm>
            <a:off x="3200400" y="152280"/>
            <a:ext cx="2286000" cy="175752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5"/>
          <a:srcRect l="33546" t="0" r="17975" b="0"/>
          <a:stretch/>
        </p:blipFill>
        <p:spPr>
          <a:xfrm>
            <a:off x="6629400" y="1905120"/>
            <a:ext cx="2363760" cy="2743200"/>
          </a:xfrm>
          <a:prstGeom prst="rect">
            <a:avLst/>
          </a:prstGeom>
          <a:ln w="114480">
            <a:solidFill>
              <a:srgbClr val="ff0000"/>
            </a:solidFill>
            <a:miter/>
          </a:ln>
        </p:spPr>
      </p:pic>
      <p:sp>
        <p:nvSpPr>
          <p:cNvPr id="120" name=""/>
          <p:cNvSpPr txBox="1"/>
          <p:nvPr/>
        </p:nvSpPr>
        <p:spPr>
          <a:xfrm rot="5400000">
            <a:off x="-1332720" y="2780280"/>
            <a:ext cx="437976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2064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108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Test Subject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108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70884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noticed that everyone seemed disoriented.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also seemed to have to think harder at midnight.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191120" y="4419720"/>
            <a:ext cx="2819160" cy="1925640"/>
          </a:xfrm>
          <a:prstGeom prst="rect">
            <a:avLst/>
          </a:prstGeom>
          <a:ln w="101520">
            <a:solidFill>
              <a:srgbClr val="3366ff"/>
            </a:solidFill>
            <a:miter/>
          </a:ln>
        </p:spPr>
      </p:pic>
      <p:sp>
        <p:nvSpPr>
          <p:cNvPr id="123" name=""/>
          <p:cNvSpPr txBox="1"/>
          <p:nvPr/>
        </p:nvSpPr>
        <p:spPr>
          <a:xfrm rot="5400000">
            <a:off x="-1355040" y="2955240"/>
            <a:ext cx="438624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Observation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20:54:11Z</dcterms:created>
  <dc:creator>USD376</dc:creator>
  <dc:description/>
  <dc:language>en-US</dc:language>
  <cp:lastModifiedBy>USD376</cp:lastModifiedBy>
  <cp:lastPrinted>2009-04-22T19:24:48Z</cp:lastPrinted>
  <dcterms:modified xsi:type="dcterms:W3CDTF">2011-03-22T19:59:01Z</dcterms:modified>
  <cp:revision>10</cp:revision>
  <dc:subject/>
  <dc:title>The Amazing Paint Race</dc:title>
</cp:coreProperties>
</file>